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5451-D48B-4922-9D1C-1B28D527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D1DA-FCF3-4627-BFC8-7176C0A3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F1D-7ABB-4982-820B-6C4C08C4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634-FD4D-4875-9EA2-8F9A123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C63-68CB-45DF-AC7E-65FA1150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54F-2E33-444D-BDE1-452A5508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2B7-2660-4827-8CA6-2FDF648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EA3-12EC-4DB6-892A-470A8B3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F7B-CFA3-4840-979F-CBF7E2E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591-3357-4AFD-BC40-38E31BD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267-189A-498B-81C7-5FA8D69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229-E211-45E6-A05D-215675E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A7E-FF23-457E-A48A-C3F2BB6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17E-A720-4273-9A7D-86F5CAD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800-8D04-4CD5-9466-1FF1849C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87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75248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en los extrañ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jecto y estoy con mis hermanos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comer con mi famili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057400" y="182880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7:23Z</dcterms:modified>
  <cp:revision>110</cp:revision>
  <dc:subject/>
  <dc:title>Profile</dc:title>
</cp:coreProperties>
</file>